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83541"/>
        <c:axId val="56281479"/>
      </c:barChart>
      <c:catAx>
        <c:axId val="68383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1479"/>
        <c:crosses val="autoZero"/>
        <c:auto val="1"/>
        <c:lblAlgn val="ctr"/>
        <c:lblOffset val="100"/>
        <c:noMultiLvlLbl val="0"/>
      </c:catAx>
      <c:valAx>
        <c:axId val="56281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83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B6F-4EFE-4DE1-A0DB-3CE13CA4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AC8-2EA7-4EF8-A6B9-EA44BCA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20E-0DD7-487D-8406-B1B835A1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D77-206A-40F4-ABF6-10771605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625-2531-45D5-8D07-ACAE96E9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F0D-F0A4-4847-AAC4-800413A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346-609D-4BA1-B0B0-0504FC8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E97-6B53-4172-A50B-6BA65A43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9AE-9891-4DFC-B019-C6EBE29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607-EEC6-4E6C-877D-763D3E7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2D8-D369-417F-9C90-623E748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83B-4E69-4788-B6A3-F51D72C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B3568-C060-4EA9-A76E-6E65FE4C1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