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592787"/>
        <c:axId val="50632180"/>
      </c:barChart>
      <c:catAx>
        <c:axId val="445927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32180"/>
        <c:crosses val="autoZero"/>
        <c:auto val="1"/>
        <c:lblAlgn val="ctr"/>
        <c:lblOffset val="100"/>
        <c:noMultiLvlLbl val="0"/>
      </c:catAx>
      <c:valAx>
        <c:axId val="506321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5927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0FAE-7658-4728-874F-1936A58FA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F15D-6750-4C88-9CB8-AAC46F54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AE8A-AA16-4BCC-A7D0-F081A1FAA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9076-EFAE-448B-8A8A-FE414CE05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AE25-DCC2-4432-9AEF-1E1BF7BF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F82A-4F20-4775-AAAA-8B2226C5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7F87-4249-44DE-BAF0-04F99E98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0F19-E7E7-45FF-A644-E424AA83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408D-3FF4-41FD-B980-17A88336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87D3-7DB0-4FF0-AAA5-9D3756B6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57A9-F4EB-4C9B-BC86-B34FBB19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8C3E-B606-4477-AEB5-1694DF0F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A05CC-30CC-4C94-BE1B-9977FA09B1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