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334165"/>
        <c:axId val="49309530"/>
      </c:barChart>
      <c:catAx>
        <c:axId val="453341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09530"/>
        <c:crosses val="autoZero"/>
        <c:auto val="1"/>
        <c:lblAlgn val="ctr"/>
        <c:lblOffset val="100"/>
        <c:noMultiLvlLbl val="0"/>
      </c:catAx>
      <c:valAx>
        <c:axId val="493095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341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841-BFDE-4C03-A179-44611493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EB3-C869-4AD1-9C0C-354CFEC6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D79-ECAF-459C-9B10-FB69BE9A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9FC-BFF5-42C8-949F-B0FD54E5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1B23-4F5C-4B96-AB4F-62184534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797-CBE7-4C9B-A807-7392C8EF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3D82-6D9D-45B8-9E87-7BB31640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6CD0-2CD0-44FA-BF22-D70F2AF2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83C0-8F70-4DB8-AB67-771F73A1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F21-346D-4241-9E37-D7308B82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568B-CE46-48D7-BE23-56E2D040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7D20-09B1-44F2-A540-1118E732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A5383-72BC-4025-9276-B9A6B18F7F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