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34412"/>
        <c:axId val="36682330"/>
      </c:barChart>
      <c:catAx>
        <c:axId val="14834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82330"/>
        <c:crosses val="autoZero"/>
        <c:auto val="1"/>
        <c:lblAlgn val="ctr"/>
        <c:lblOffset val="100"/>
        <c:noMultiLvlLbl val="0"/>
      </c:catAx>
      <c:valAx>
        <c:axId val="36682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34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C31-56F4-430B-A22C-4BF500E5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ED6-6500-4D19-9134-E9C1CDA4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7BE-BAE4-4DE3-90CB-4BBD89A4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945-1B16-4D78-B166-74E2B5D0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125-9E43-4FA5-9751-FA6D5659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6E2-ECC5-4C7F-BB50-27E33EDE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CE9-FE9A-43C3-981B-C8F47D1B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A25-E3D7-4CE5-AA28-B7F774FB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3E1-EC57-4F95-A9A3-E11E5CD4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CC7-CA81-4C3E-AB4B-F48C3FEA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060-851C-44D2-84FC-8654F0E9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BA4-0B77-4A86-9F2F-39E260BD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0ED4A-2CF7-4398-9E7C-7531EB1B03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