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14034"/>
        <c:axId val="73846328"/>
      </c:barChart>
      <c:catAx>
        <c:axId val="22514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46328"/>
        <c:crosses val="autoZero"/>
        <c:auto val="1"/>
        <c:lblAlgn val="ctr"/>
        <c:lblOffset val="100"/>
        <c:noMultiLvlLbl val="0"/>
      </c:catAx>
      <c:valAx>
        <c:axId val="73846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14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97C-A238-4952-B9A2-FA798FB5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41E-6F78-4EC4-95D9-F19C7064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74F-B8D2-4E2A-822D-0D6EBC1F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E1E-F2D1-46FC-81C6-D2BA2EE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AD2-1C3F-44B5-8894-DE547C5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345-86E5-4699-B8DF-0D5A5AA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927-2648-4DD8-A9C4-03AC5EAA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9E2-B862-4964-AE17-B8E5929E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F93-E759-4FAC-9204-A98D6508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221-C3F6-4226-ADBF-A88263E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862-1709-4379-9CE5-130CD48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9D2-33FE-480F-8066-4BEE9E4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532D-F330-4246-AB6D-98700C4F2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