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62791"/>
        <c:axId val="79722720"/>
      </c:barChart>
      <c:catAx>
        <c:axId val="88862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2720"/>
        <c:crosses val="autoZero"/>
        <c:auto val="1"/>
        <c:lblAlgn val="ctr"/>
        <c:lblOffset val="100"/>
        <c:noMultiLvlLbl val="0"/>
      </c:catAx>
      <c:valAx>
        <c:axId val="79722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62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8D5-A821-4460-B05E-DAA29E16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A98-7E36-4EF3-B865-7C5CC0E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68E-A51F-4358-BED8-733E35C2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18F-CCEC-4D3A-9FCC-97E38775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16C-F7BC-4060-9B25-A3AE0D67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13E-825E-4053-9DBB-3DA96174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F6C-2B0E-4C69-9BFD-A614B6E0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5D1-AF68-46A3-9261-ED7E3A2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C12-20C3-4151-9175-515F2BC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81B-4757-45CA-81CD-66801CF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362-0563-428F-84EA-8EC788CF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920-3793-4A5B-B5CE-75C99BE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CD78F-D51D-4A6F-845A-39E734BC8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